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3A1-84D6-4D93-A991-5162DDB9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1BA-AABA-4895-A054-2069089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7F0-CEBC-4949-AE11-9F20C2AA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F28-AAE9-455E-BECC-B01AC66A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D4B4-1381-430B-9FA7-BFD75B12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9228-0946-4F72-B78E-0E6D858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CAB1-E21D-4FC3-BBC1-6210ED17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4432-77A1-47AB-80E2-4D6B91C6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A829-C7C9-44F4-AA1A-D1FC6E7C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72E4-1898-43E0-B924-2FB0D2C7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C3AB-9A63-43EC-A31F-B6EEB6C2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FDA-A123-4E2A-8448-20437734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1B8D-5BA2-4754-9C4A-BFFB435A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B22F-DEE6-4FA3-8B2C-6EC9101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BA07-683F-48D3-B732-D9C8513A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9367-F10D-409D-A608-6427C3E3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2A0E-7309-4205-8C13-D7F43E28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058-4F23-456B-8F66-30AFE4D9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3F0-983A-4A77-ACF8-3B66034D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FEC-8D1B-4827-A6B3-B31A7C9B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FB6-0FA6-4D98-AC95-2CAA02BA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5F1-3708-4657-BDB9-71684F84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F76-2061-4EF9-98D5-F833914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781-F732-470D-96DF-1F0C271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BA7EA-4653-41E6-B2BC-EB16397A6908}" type="datetime">
              <a:rPr b="0" lang="en-US" sz="14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A9FE5-BE38-4879-A18E-00A888B82C1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B3D08-3362-4DA7-AAF0-46BF9B518BA0}" type="datetime">
              <a:rPr b="0" lang="en-US" sz="14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03362-7A1D-46C9-8FDB-3C279DC41D19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ff20"/>
                </a:solidFill>
                <a:latin typeface="Gill Sans Ultra Bold"/>
              </a:rPr>
              <a:t>Objects in the Ey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276360" y="3979800"/>
            <a:ext cx="485748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ff20"/>
                </a:solidFill>
                <a:latin typeface="Verdana"/>
              </a:rPr>
              <a:t>By Daniel Rittenho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2361960" cy="1920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943280" y="39798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501480"/>
            <a:ext cx="95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784520" y="116208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120b"/>
                </a:solidFill>
                <a:latin typeface="Arial Black"/>
              </a:rPr>
              <a:t>First Aid for Objects in the Ey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1548000" y="3429000"/>
            <a:ext cx="57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1b"/>
                </a:solidFill>
                <a:latin typeface="Arial Black"/>
              </a:rPr>
              <a:t>Do not rub the Eye, this can make things wor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95280" y="3825720"/>
            <a:ext cx="1457280" cy="14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46200" y="1481040"/>
            <a:ext cx="59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If the object is under the upper eye lid, pull the lid up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with a cotton swab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476720" y="2971800"/>
            <a:ext cx="52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Do the same if the object is under the lower li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698840" y="4343400"/>
            <a:ext cx="54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Then take a handkerchief that is moist and clea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With water, flood the ey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76440" y="3505320"/>
            <a:ext cx="60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If the object can’t be removed, or if the pain continues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try to get a dry clean bandage and cover the ey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aff1e"/>
                </a:solidFill>
                <a:latin typeface="Arial Black"/>
              </a:rPr>
              <a:t>Then get medical help quickl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flipH="1">
            <a:off x="1071720" y="1600200"/>
            <a:ext cx="2735280" cy="96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447920" y="1066680"/>
            <a:ext cx="2039760" cy="2040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3:00:17Z</dcterms:created>
  <dc:creator>kms kms</dc:creator>
  <dc:description/>
  <dc:language>en-US</dc:language>
  <cp:lastModifiedBy>Kraybill Campus LMS</cp:lastModifiedBy>
  <dcterms:modified xsi:type="dcterms:W3CDTF">2011-05-26T16:19:29Z</dcterms:modified>
  <cp:revision>6</cp:revision>
  <dc:subject/>
  <dc:title>Objects in the Eye</dc:title>
</cp:coreProperties>
</file>